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E6B-61DE-429B-AC39-F1F726DF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C31-EE7B-4CCD-8B97-6172672B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B51-9D7D-409D-89D7-98849361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58D-464A-4F90-BD8C-34D19B0B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8E3E-FF73-4E05-8536-CE56DCA9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4787-FD53-47FE-B46E-714CDB67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9F88-FA4D-4A21-9A9A-84E42753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55B0-8288-468A-875D-D65B2AA0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08C0-6492-423F-9DB9-6A05D9AB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2742-5F59-4E7C-851D-08CFE97F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262E-7E4B-48D6-B8EC-BFBA204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25A-54AD-453C-97B5-6549E23F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A6DB-F962-40A5-93A7-56A0605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0FB6-43BF-474A-A6A2-47CAC8D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1345-9782-4821-9FCC-CA2376AD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BEBB-AEA3-4F43-AB54-D47F6B06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630D-2410-47D5-9919-E4A55646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1A8-2F14-43D5-ABF8-5524FA21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4A9-5B8E-469E-B357-DFE64FBB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FCA-3B2B-4D2C-9A90-368EEBB9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D07-D475-40AD-B605-844DFA46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6F4-613C-4279-80E7-BDD28AFD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643-B7F6-4D2B-AAC2-35D3E16D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73E-CCE2-4FE6-A906-6BF74F21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AAD9-DFFC-49D9-BEF3-3BBDCF4AC4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2B75-F19E-40E3-961C-E3EB8A175E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41960" y="2514600"/>
            <a:ext cx="39618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Electrochemist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an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The Chemical Ce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819520"/>
            <a:ext cx="914400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system consisting of electrodes that dip into an electrolytic solution and in which a chemical reaction produces an electric curr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5120" y="190512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Electrochemical cell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514600"/>
            <a:ext cx="9144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n aqueous solution that contains ions (electrolytes) and conducts electric curr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8400" y="1905120"/>
            <a:ext cx="44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Electrolytic solution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7720" y="3755880"/>
            <a:ext cx="175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39280" y="4213080"/>
            <a:ext cx="438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1.   “Gatorade”, “All-sport”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0280" y="4808520"/>
            <a:ext cx="280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.   “Battery aci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1800" y="5378400"/>
            <a:ext cx="561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3.   Your blood and interstitial fl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240" y="2057400"/>
            <a:ext cx="8452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re are two types of electrochemical cel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29400" y="3160800"/>
            <a:ext cx="288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oltaic ce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272120"/>
            <a:ext cx="794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lectrolytic ce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48200" y="4191120"/>
            <a:ext cx="419580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not to be confused with the term “Electrochemical cell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17720" y="19051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Voltaic cell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743200"/>
            <a:ext cx="9144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U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es energy from 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spontaneous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chemical reaction to produce an electric current. These cells are often called a "Galvanic cells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40240" y="167652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 of voltaic ce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880" y="2362320"/>
            <a:ext cx="707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non-rechargeable battery ("Dry cell"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9000" y="3124080"/>
            <a:ext cx="307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car batt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" y="3809880"/>
            <a:ext cx="328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potato clo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419720"/>
            <a:ext cx="88390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"plating solution and cell" that does not require additional electricity. (We will copper plate tin this way in the lab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16120" y="182880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Electrolytic cell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U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es energy from a non-spontaneous chemical reaction to produce an electric current. These are often used to plate meta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20720" y="1630440"/>
            <a:ext cx="57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xamples of electrolytic cel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0200" y="2666880"/>
            <a:ext cx="85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lectrolysis of water into Hydrogen and Oxyg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8620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lectrolysis of brine (concentrated salt water) into Chlorine gas, Hydrogen, and Sodium chlorid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24120" y="20192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ode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74320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te tha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is always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the electrode where oxidation occur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9040" y="3979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 is the negative terminal in a voltaic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71440" y="4714920"/>
            <a:ext cx="67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 is the positive terminal in an electrolytic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34200" y="201924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Cathode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74320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te tha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is always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the electrode where reduction occur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38320" y="3979800"/>
            <a:ext cx="59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 is the positive terminal in a voltaic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71440" y="471492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 is the negative terminal in an electrolytic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81720" y="1676520"/>
            <a:ext cx="199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Rememb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9440" y="2286000"/>
            <a:ext cx="294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If you alphabet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70200" y="3505320"/>
            <a:ext cx="77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87840" y="2971800"/>
            <a:ext cx="26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” precedes “C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85680" y="3962520"/>
            <a:ext cx="270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O” precedes “R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20320" y="4848120"/>
            <a:ext cx="331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odes are oxid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3200" y="5383080"/>
            <a:ext cx="360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Cathodes are reduc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3160" y="2057400"/>
            <a:ext cx="408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Electrochemistry -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89154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branch of chemistry dealing with the relations between chemical energy and electrical energ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2600" y="4038480"/>
            <a:ext cx="796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xamples of technology utilizing electrochemistr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2720" y="4648320"/>
            <a:ext cx="293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1.  Batte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9440" y="5334120"/>
            <a:ext cx="278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.  Electropla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90720" y="927000"/>
            <a:ext cx="7162560" cy="5289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14720" y="380880"/>
            <a:ext cx="276840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halkboard"/>
              </a:rPr>
              <a:t>A Voltaic Ce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543800" cy="5299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16040" y="380880"/>
            <a:ext cx="3614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 Electrolytic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22400" y="2133720"/>
            <a:ext cx="22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Electricity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040" y="3048120"/>
            <a:ext cx="350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flow of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8680" y="3809880"/>
            <a:ext cx="1646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lectron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1040" y="4267080"/>
            <a:ext cx="80643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 negatively charged subatomic particle., found orbiting the nucleus of an atom, with an insignificant mas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2000" y="205740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Volt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9560" y="2724120"/>
            <a:ext cx="8164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 unit of electromotive force, the potential difference of energy that will move one ampere of current across one ohm of resist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1080" y="205740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mp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360" y="2843280"/>
            <a:ext cx="355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 unit of curr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80640" y="20574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Ohm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7800" y="2744640"/>
            <a:ext cx="525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 uit of electrical resist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7640" y="19051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Oxidation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895480"/>
            <a:ext cx="88390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hemical process where electrons are lost. The oxidation number (charge) gets more positi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1981080"/>
            <a:ext cx="24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Reduction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895480"/>
            <a:ext cx="9144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emical process where electrons are gained. The oxidation state (charge) gets more negati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760" y="205740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OIL RIG -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97180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n acronym to help remember the difference between oxidation and reductio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43200" y="4419720"/>
            <a:ext cx="8844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xidatio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L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ss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R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ductio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in (of electron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4:39:57Z</dcterms:created>
  <dc:creator>PA Department of Education</dc:creator>
  <dc:description/>
  <dc:language>en-US</dc:language>
  <cp:lastModifiedBy>PA Department of Education</cp:lastModifiedBy>
  <dcterms:modified xsi:type="dcterms:W3CDTF">2008-12-03T16:03:51Z</dcterms:modified>
  <cp:revision>26</cp:revision>
  <dc:subject/>
  <dc:title>PowerPoint Presentation</dc:title>
</cp:coreProperties>
</file>